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E616-E6B6-458A-A493-AEDC34D0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52CC-3628-4363-8D6F-EAABBD4E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863-8C40-4781-A232-E67103A8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1ECA-659A-4217-BA49-FC17B319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525F-2B6D-4A72-AE8D-7D546DF3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F078-A372-4604-8551-80A2C9F0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4B61-3898-4CB1-B87C-58A9858A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8D96-22AA-4161-9E17-531589F9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31B2-00BD-4170-9663-0C6D06E2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362D-786D-4F0E-8C81-C33F6A0D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3208-777F-4580-89ED-76B1CF18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F96F-D0BF-4CFD-9D5A-6F08BB8C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6663-A590-4145-B1C2-88B7495B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16FB-507B-4483-AE1F-AB33CDA3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2178-2F2E-4FF7-B476-8505BE51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91EE-1712-47BB-AD80-DEFF9B4C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489D-060C-413E-978E-C4513A3B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D18F-840A-4346-9A7D-E93765E7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A316-188E-4DC0-A4D5-77CBAE6B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6BDB-410A-4597-8908-9FB08785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354-1198-4B3D-A87E-00E0B97E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6741-F465-4820-8DEA-32D2BD19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6A7F-B4FE-49C9-96DE-6BFE4EB6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9201-B947-4C89-AD80-C999FE11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DF63-4078-43C4-A6A3-C3B7E1995F7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69C5-D82C-4F42-98C7-30F2320DAFD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5400" spc="-1" strike="noStrike">
                <a:solidFill>
                  <a:srgbClr val="996633"/>
                </a:solidFill>
                <a:latin typeface="Times New Roman"/>
              </a:rPr>
              <a:t>Sistemas de Comunicaciones Móviles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52480" y="4572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C" sz="3600" spc="-1" strike="noStrike">
                <a:solidFill>
                  <a:srgbClr val="a08366"/>
                </a:solidFill>
                <a:latin typeface="Times New Roman"/>
              </a:rPr>
              <a:t>Jorge Amores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C" sz="3600" spc="-1" strike="noStrike">
                <a:solidFill>
                  <a:srgbClr val="a08366"/>
                </a:solidFill>
                <a:latin typeface="Times New Roman"/>
              </a:rPr>
              <a:t>Agosto/1999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Desafíos en las comunicaciones móvi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Canal de Radio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Bastante Hosti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Variante en el tiemp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Espectro limitado (banda estrecha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Tipos de Distorsión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Ruido Blanco (menos importante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Pérdida de propagació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Desafíos ..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Sombreamient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Efectos de múltiple percurs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Interferencia de otros usuarios del sistem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i="1" lang="es-EC" sz="3200" spc="-1" strike="noStrike">
                <a:solidFill>
                  <a:srgbClr val="402000"/>
                </a:solidFill>
                <a:latin typeface="Times New Roman"/>
              </a:rPr>
              <a:t>Sistema celular es limitado por </a:t>
            </a:r>
            <a:r>
              <a:rPr b="0" i="1" lang="es-EC" sz="3200" spc="-1" strike="noStrike" u="sng">
                <a:solidFill>
                  <a:srgbClr val="402000"/>
                </a:solidFill>
                <a:uFillTx/>
                <a:latin typeface="Times New Roman"/>
              </a:rPr>
              <a:t>interfer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Métodos para combatir limitacion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Reuso de frecu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Uso de códigos correctores de errores e técnicas de entrelazamiento (interleaving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Control de pot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Alocación dinámica de cana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Transmisión discontinu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Métodos de acceso sofisticados (FDMA, NB-TDMA, CDMA, otros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Movilida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Gerencia de localización (Utilización de sofisticadas bases de datos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Estrategias de Pag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Definición de áreas de localizació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Posibilidad de ejecutar Handoffs (Handover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Handoff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676520" y="1752480"/>
          <a:ext cx="5943600" cy="444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52480"/>
                    <a:ext cx="5943600" cy="44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Movilida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Operación en </a:t>
            </a:r>
            <a:r>
              <a:rPr b="0" i="1" lang="es-EC" sz="3200" spc="-1" strike="noStrike">
                <a:solidFill>
                  <a:srgbClr val="402000"/>
                </a:solidFill>
                <a:latin typeface="Times New Roman"/>
              </a:rPr>
              <a:t>Roaming</a:t>
            </a: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 (Posibilidad de ser reconocido fuera del área de cobertura del operador local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Garantía de seguridad (privacidad, autenticación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Factores de mérito para un Sistema Móvil Celula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Costo del servic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Probabilidad de Bloqueo (canales nos disponibles en la celda o célula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Probabilidad de pérdida de llamad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Por interferencia (baja relación C / I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Por Handoff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Factores de mérito ..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Retardo en el establecimiento de la llamada – estrategia de Pag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Alta calidad de transmisión (no degradada por el codificador de voz en los sistemas digitales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ficiencia espectral (Erlangs o MHz / Célula o MHz / Km</a:t>
            </a:r>
            <a:r>
              <a:rPr b="0" lang="es-EC" sz="32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) – ganancia de la operador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Factores de mérito ..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ficiencia de cobertura (Km</a:t>
            </a:r>
            <a:r>
              <a:rPr b="0" lang="es-EC" sz="32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 / célula) – costo para la operador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Flexibilidad en la planifica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Posibilidad de </a:t>
            </a:r>
            <a:r>
              <a:rPr b="0" i="1" lang="es-EC" sz="3200" spc="-1" strike="noStrike">
                <a:solidFill>
                  <a:srgbClr val="402000"/>
                </a:solidFill>
                <a:latin typeface="Times New Roman"/>
              </a:rPr>
              <a:t>Roam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Privacidad y segur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Otros servicios (transmisión de datos, etc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Funciones que una Red Móvil debe ejecutar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Transmisión confiable de la información (capas 1 y 2 del modelo OSI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Gerencia de movilidad (algoritmos eficientes de paging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Gerencia de llamad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Motiva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Característic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Sistemas móvi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structura de una red celul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Sistema AMP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Sistema IS-136 (D-AMPS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Comunicaciones móviles via Satéli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Funciones ..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Gerencia de los recursos de rad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Alocación de canales (fija o dinámica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Control de la potencia de transmisión del terminal y de la ba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Escoger una ERB para la comunicación entre el terminal y la r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Privacidad y segurida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OA&amp;M (Operación, Administración y Mantenimiento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SERVICIOS MÓVI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Celular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Sistemas Analógic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402000"/>
                </a:solidFill>
                <a:latin typeface="Times New Roman"/>
              </a:rPr>
              <a:t>AMPS (Advanced Mobile Phone Service)</a:t>
            </a:r>
            <a:br>
              <a:rPr sz="2400"/>
            </a:br>
            <a:r>
              <a:rPr b="0" lang="es-EC" sz="2400" spc="-1" strike="noStrike">
                <a:solidFill>
                  <a:srgbClr val="402000"/>
                </a:solidFill>
                <a:latin typeface="Times New Roman"/>
              </a:rPr>
              <a:t>30 KHz / canal de voz</a:t>
            </a:r>
            <a:br>
              <a:rPr sz="2400"/>
            </a:br>
            <a:r>
              <a:rPr b="0" lang="es-EC" sz="2400" spc="-1" strike="noStrike">
                <a:solidFill>
                  <a:srgbClr val="402000"/>
                </a:solidFill>
                <a:latin typeface="Times New Roman"/>
              </a:rPr>
              <a:t>FDMA/FD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402000"/>
                </a:solidFill>
                <a:latin typeface="Times New Roman"/>
              </a:rPr>
              <a:t>TACS (UK), C-450 (Alemania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402000"/>
                </a:solidFill>
                <a:latin typeface="Times New Roman"/>
              </a:rPr>
              <a:t>NMT-450, NMT-900 (Escandinavia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066680" y="2438280"/>
          <a:ext cx="7581960" cy="27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7581960" cy="27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Sistemas Analógic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SERVICIOS MÓVILES Celular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Sistemas Digita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091880" indent="-25992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402000"/>
                </a:solidFill>
                <a:latin typeface="Times New Roman"/>
              </a:rPr>
              <a:t>GSM (Global System for Mobile Communications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09188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C" sz="2400" spc="-1" strike="noStrike">
                <a:solidFill>
                  <a:srgbClr val="402000"/>
                </a:solidFill>
                <a:latin typeface="Times New Roman"/>
              </a:rPr>
              <a:t>Europa, Medio Oriente, Asi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09188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C" sz="2400" spc="-1" strike="noStrike">
                <a:solidFill>
                  <a:srgbClr val="402000"/>
                </a:solidFill>
                <a:latin typeface="Times New Roman"/>
              </a:rPr>
              <a:t>TDMA/FD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091880" indent="-25992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402000"/>
                </a:solidFill>
                <a:latin typeface="Times New Roman"/>
              </a:rPr>
              <a:t>IS–54 e IS–136 (D-AMPS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09188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C" sz="2400" spc="-1" strike="noStrike">
                <a:solidFill>
                  <a:srgbClr val="402000"/>
                </a:solidFill>
                <a:latin typeface="Times New Roman"/>
              </a:rPr>
              <a:t>Estados Unidos y Améric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09188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C" sz="2400" spc="-1" strike="noStrike">
                <a:solidFill>
                  <a:srgbClr val="402000"/>
                </a:solidFill>
                <a:latin typeface="Times New Roman"/>
              </a:rPr>
              <a:t>TDMA/FD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091880" indent="-25992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402000"/>
                </a:solidFill>
                <a:latin typeface="Times New Roman"/>
              </a:rPr>
              <a:t>IS–9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09188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C" sz="2400" spc="-1" strike="noStrike">
                <a:solidFill>
                  <a:srgbClr val="402000"/>
                </a:solidFill>
                <a:latin typeface="Times New Roman"/>
              </a:rPr>
              <a:t>CDMA/FD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091880" indent="-25992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402000"/>
                </a:solidFill>
                <a:latin typeface="Times New Roman"/>
              </a:rPr>
              <a:t>PDC (Japón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Sistemas Digitales (TDMA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219320" y="1828800"/>
          <a:ext cx="716256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28800"/>
                    <a:ext cx="716256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SERVICIOS MÓVILES Celular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i="1" lang="es-EC" sz="3200" spc="-1" strike="noStrike">
                <a:solidFill>
                  <a:srgbClr val="402000"/>
                </a:solidFill>
                <a:latin typeface="Times New Roman"/>
              </a:rPr>
              <a:t>Todos los sistemas operan en la banda de 800 –900 MHz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SERVICIOS MÓVI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Sistemas PCS (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ersonal Communication Systems</a:t>
            </a: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Sistemas celulares que trabajan en la banda 1.5 a 1.9 GHz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TDMA/TDD (PHS – Estados Unidos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Sistemas PC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14400" y="2057400"/>
          <a:ext cx="7924680" cy="28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7924680" cy="28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SERVICIOS MÓVI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Paging (Sistemas de Radio Llamada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Redes Móviles Privadas (Troncalizadas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Telefonía Inalámbrica (DECT,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igital Enhanced Cordless Telephony</a:t>
            </a: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Accesos locales inalámbricos (WLL, Wireless Local Loop) *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* </a:t>
            </a:r>
            <a:r>
              <a:rPr b="0" lang="es-EC" sz="2400" spc="-1" strike="noStrike">
                <a:solidFill>
                  <a:srgbClr val="402000"/>
                </a:solidFill>
                <a:latin typeface="Times New Roman"/>
              </a:rPr>
              <a:t>No es un sistema móvil, pero utiliza muchas de las características de los sistemas móviles</a:t>
            </a: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ARQUITECTURA DE RED EN SISTEMAS MÓVI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90720" y="1676520"/>
          <a:ext cx="7619760" cy="49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619760" cy="49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Sistemas de Comunicaciones Móviles – Característica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Acceso inalámbrico (vía radio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Movilidad -  Inteligencia en la Red Móvil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Optimización en el consumo de Energí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SISTEMA AMP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Histor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Comparados con los 120 años de historia del teléfono, los sistemas celulares pueden ser considerados como “recién llegados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Primerass experiencias en el área en los años 70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Primeros sistemas comerciales - 1980 y 81en Japón y la península escandinav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Histor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Gran acogida y crecimiento de cobertura geográfica en los años 90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Las comunicaciones celulares se originaron en prósperas naciones industriales con una red telefónica fija muy avanzad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El objetivo inicial fue proporcionar servicio telefónico a vehículos motoriz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Servicio orientado a minorías con necesidades especiales en comunicac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Histor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Rápidamente se convirtieron en pequeños dispositivos portáti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Tiene la propiedad de pertenecer a la persona y no a la oficina o al hog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A pesar de ser un servicio más costoso que la telefonía convencional, ha tenido gran acogida incluso en países de bajo desarrollo económico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El éxito alcanzado ha incentivado el rápido desarrollo en el áre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Histor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Debido a la infraestructura montada, los nuevos móviles funcionan en modo dua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Sistemas de primera generación : INCOMPATIB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402000"/>
                </a:solidFill>
                <a:latin typeface="Times New Roman"/>
              </a:rPr>
              <a:t>El estándar AMPS solo normaliza la interface de rad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402000"/>
                </a:solidFill>
                <a:latin typeface="Times New Roman"/>
              </a:rPr>
              <a:t>Características en común - modulación FM, y sistemas de señalización simila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Servicios y objetivos de diseñ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Cubrir con los servicios ofrecidos por la telefonía normal +  </a:t>
            </a:r>
            <a:r>
              <a:rPr b="0" i="1" lang="es-EC" sz="3200" spc="-1" strike="noStrike">
                <a:solidFill>
                  <a:srgbClr val="402000"/>
                </a:solidFill>
                <a:latin typeface="Times New Roman"/>
              </a:rPr>
              <a:t>servicios suplementari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Correo de voz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Transferencia de llamadas, etc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Transmisión de datos **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Calidad de servicio vulnerable a las imperfecciones del canal de transmisión y handoff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Servicios y objetivos de diseñ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Brindar cobertura de amplias áreas geográfic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Bajas probabilidades de bloqueo de llamadas y caída de llamad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Alta calidad de transmisión de voz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Alta movilidad de usuar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Alta eficiencia espectr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Facilidad de instalació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Arquitectur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AMPS - estándar Norteamericano titulado “Especificación de Compatibilidad de la Estación Móvil y  Estación Terrena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l estándar no dice nada al respecto de la comunicación entre la estación base y los switch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Comunicación regida por protocolos de fabricantes de equipamient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Arquitectur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Imposibilidad de interconexión entre sistemas de diferentes fabricant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Los servicios de </a:t>
            </a:r>
            <a:r>
              <a:rPr b="0" i="1" lang="es-EC" sz="3200" spc="-1" strike="noStrike">
                <a:solidFill>
                  <a:srgbClr val="402000"/>
                </a:solidFill>
                <a:latin typeface="Times New Roman"/>
              </a:rPr>
              <a:t>Roaming</a:t>
            </a: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 (que permiten a un abonado usar su teléfono celular fuera del área de cobertura de su proveedor local) eran esporádicos e inconsistent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stablecimiento de estándares (IS-41) que permitieron interconectividad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Terminologí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Varía en la literatur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Terminales  - estaciones móvi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Estaciones Base  - </a:t>
            </a:r>
            <a:r>
              <a:rPr b="0" i="1" lang="es-EC" sz="2800" spc="-1" strike="noStrike">
                <a:solidFill>
                  <a:srgbClr val="402000"/>
                </a:solidFill>
                <a:latin typeface="Times New Roman"/>
              </a:rPr>
              <a:t>Cell Sites </a:t>
            </a: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(ERB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Switch Celular - MTSO (Mobile Telephone Switching Office) o MSC (Mobile Switching Center)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Acces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Los enlaces de comunicación entre las estaciones base y los switches son denominados “líneas terrestres”,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Líneas dedicad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Fibra Optic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Sistemas privados de microond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Diferencias entre sistema Fijo y Móvil </a:t>
            </a:r>
            <a:r>
              <a:rPr b="0" lang="es-EC" sz="3600" spc="-1" strike="noStrike">
                <a:solidFill>
                  <a:srgbClr val="402000"/>
                </a:solidFill>
                <a:latin typeface="Times New Roman"/>
              </a:rPr>
              <a:t>(Establecimiento de la llamada)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Red Fij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819520" y="4038480"/>
          <a:ext cx="4495680" cy="24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038480"/>
                    <a:ext cx="4495680" cy="24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905120" y="2514600"/>
          <a:ext cx="5824440" cy="14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514600"/>
                    <a:ext cx="582444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Acces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Las conexiones entre el MTSO y la red pública telefónica puede también tener una variedad de formas.  Usualmente estas facilidades son propiedad de la compañía telefónica local o de larga distanci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Códigos de Identificació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90720" y="1828800"/>
          <a:ext cx="7696080" cy="400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69608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Transmisión de Radi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838080" y="1905120"/>
          <a:ext cx="807732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7732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Transmisión de Radi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Banda original del sistema AMPS - 40 MHz (total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Duplex manejado a través de división de frecuencia que separa las señales que llegan hasta la estación móvil de las que salen de ell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Transmisión de Radi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La banda para transmisión directa (desde la estación base al móvil) era de 870 a 890 MHz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Banda reversa (tranmisión del móvil a la base) está 45 MHz abaj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Un canal físico AMPS ocupa dos bandas de 30 KHz, una para cada dire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Transmisión de Radi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xisten 666 canales en el sistema original, cuyas frecuencias centrales son calculadas de la siguiente manera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Canal Reverso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Canal Directo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905120" y="3962520"/>
                <a:ext cx="4800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2500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905120" y="5105520"/>
                <a:ext cx="4800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45000  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Transmisión de Radi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Poco después, fue incrementada la banda para estos servicios, añadiendo 10 MHz adicionales a la banda original de 40 MHz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xisten 832 canales en el espectro expandido, numerados del 1 al 799 y los otros 33 canales en la banda de 1 MHz por debajo del espectro original tienen números del 991 al 102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Transmisión de Radi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stos números de canal fueron escogidos de esa manera para facilidad de cálculo de las frecuencias de portadora de los dispositivos que trabajan con aritmética de complemento a d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stos dispositivos proporcionan el resultado de los cálculos a un sintetizador de frecuencia que sintoniza el radio a la frecuencia asignad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Transmisión de Radi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Los sistemas que trabajan en la banda A poseen SIDs impar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Los sistemas que trabajan en la banda B poseen SIDs par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Todos los teléfonos celulares tienen acceso a los 832 canales disponibles, y cada teléfono es programado para utilizar preferentemente (o por restricción) los canales de su sistema local (banda A o B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Transmisión de Radi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ntre los 832 canales AMPS, existen 42 canales (21 en cada banda) que llevan información de contro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llos son los canales del 313 al 354 en el medio de la banda origi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Para establecer contacto con un sistema AMPS, el receptor de la estación móvil sintoniza uno de estos cana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Diferencias entre sistema Fijo y Móvil </a:t>
            </a:r>
            <a:r>
              <a:rPr b="0" lang="es-EC" sz="3600" spc="-1" strike="noStrike">
                <a:solidFill>
                  <a:srgbClr val="402000"/>
                </a:solidFill>
                <a:latin typeface="Times New Roman"/>
              </a:rPr>
              <a:t>(Establecimiento de la llamada)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Red Fij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05120" y="2514600"/>
          <a:ext cx="5824440" cy="14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514600"/>
                    <a:ext cx="582444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819520" y="4038480"/>
          <a:ext cx="4114800" cy="259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038480"/>
                    <a:ext cx="4114800" cy="25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Transmisión de Radi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n áreas con una gran densidad de suscriptores celulares, las operadoras pueden designar canales adicionales como canales de control del sistem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l resto de canales (hasta 395 por operadora) son canales de tráfico, disponibles para llevar información de usuario, que usualmente toma la forma de conversaciónes telefónica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Reuso de Frecuenc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057400" y="1676520"/>
          <a:ext cx="3267000" cy="33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676520"/>
                    <a:ext cx="3267000" cy="33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038480" y="3886200"/>
          <a:ext cx="274320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3886200"/>
                    <a:ext cx="27432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Reuso de Frecuenc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395 canales por operador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Con factor de reuso N = 7, se distribuyen 4 bases con 56 canales y 3 bases con 57 cana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ficiencia espectral con y sin sectorización. (18 canales por sector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685800" y="1905120"/>
          <a:ext cx="8229600" cy="10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822960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Procesamiento de la señal analógic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3352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Los cuatro bloques (previos al modulador) mantienen alta calidad de la señal y limitar la interferencia de canal adyacente.  Compresión y pre-énfasis son técnicas utilizadas para la transmisión de señales de aud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Compreso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l propósito de compresor y su correspondiente expansor en el receptor, es elevar la calidad de transmisión cuando la señal de entrada exhibe un gran rango de amplitud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Compreso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La voz humana posee un gran rango diná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402000"/>
                </a:solidFill>
                <a:latin typeface="Times New Roman"/>
              </a:rPr>
              <a:t>La energía de la señal en sonidos bajos (típicamente vocales) es 16 veces (12 dB) más fuerte que la energía en sonidos débiles (consonantes no vocalizadas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Compreso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ste amplio rango dinámico hace que el sistema de transmisión sea vulnerable a degradación de los sonidos fuertes debido a distorsión por no linearidad y de los sonidos débiles por ruid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l compresor reduce esta vulnerabilidad comprimiendo el rango dinámico en un factor de 2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Compreso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n el receptor, el expansor restaura el rango dinámico origi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l resultado es una calidad mayor de la señal de voz gracias al compans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Fuera de de la telefonía celular, se experimentan los beneficios del compansor cuando escuchamos cintas con el sistema Dolby de reducción de ruido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Filtro de pre-énfasi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l filtro de pre-énfasis y el filtro de énfasis complementario en el receptor, también mejora la calidad del sonid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Conjuntamente amplifica los sonidos de alta frecuencia que tienden a ser débiles que los sonidos de baja frecuencia, previo a la transmisión, y los restaura a sus niveles originales previo a la recep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Filtro de pre-énfasi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447920" y="1828800"/>
          <a:ext cx="6354720" cy="45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28800"/>
                    <a:ext cx="635472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Red Móvi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Diferencias entre sistema Fijo y Móvil </a:t>
            </a:r>
            <a:r>
              <a:rPr b="0" lang="es-EC" sz="3600" spc="-1" strike="noStrike">
                <a:solidFill>
                  <a:srgbClr val="402000"/>
                </a:solidFill>
                <a:latin typeface="Times New Roman"/>
              </a:rPr>
              <a:t>(Establecimiento de la llamada)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66680" y="2514600"/>
          <a:ext cx="7736040" cy="18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14600"/>
                    <a:ext cx="773604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762120" y="4495680"/>
          <a:ext cx="3047760" cy="205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495680"/>
                    <a:ext cx="304776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Limitado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l limitador de amplitud confina las excursiones máximas de la señal modulada en frecuencia a 12 KHz en ambos lados de la portador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Filtro Pasa-baj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Finalmente, la señal en banda básica pasa por un filtro pasabajos con función de transferencia como mostrada en la figur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523880" y="3276720"/>
          <a:ext cx="586764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276720"/>
                    <a:ext cx="586764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996633"/>
                </a:solidFill>
                <a:latin typeface="Times New Roman"/>
              </a:rPr>
              <a:t>Filtro Pasa-baj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ste filtro asegura que la energía mayor a 15 KHz fuera de la frecuencia de portadora sea atenuada en por lo menos 28 dB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sta energía contribuye a la interferencia de canal adyacen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Nótese también el </a:t>
            </a:r>
            <a:r>
              <a:rPr b="0" i="1" lang="es-EC" sz="3200" spc="-1" strike="noStrike">
                <a:solidFill>
                  <a:srgbClr val="402000"/>
                </a:solidFill>
                <a:latin typeface="Times New Roman"/>
              </a:rPr>
              <a:t>notch</a:t>
            </a: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 en 6 KHz que remueve la energía en esta frecuencia, asociada con los tres tonos de supervisión (SAT) presentes en el sistema AMP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Tonos de supervisió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l </a:t>
            </a:r>
            <a:r>
              <a:rPr b="0" i="1" lang="es-EC" sz="3200" spc="-1" strike="noStrike">
                <a:solidFill>
                  <a:srgbClr val="402000"/>
                </a:solidFill>
                <a:latin typeface="Times New Roman"/>
              </a:rPr>
              <a:t>Supervisory Audio Tone </a:t>
            </a: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(SAT), transmitido junto con la información del usuario, identifica la estación base asignada a determinada llamad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Cada estación base posee su propio SAT en 5970, 6000 o 6030 Hz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n el proceso de establecimiento de una llamada, el sistema transmite a la estación móvil la identificación del SAT en la estación base inicialmente asignada a la llamad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Tonos de supervisió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n la transferencia de la llamada a otra estación base, el sistema informa al móvil la identidad del SAT de la nueva estación ba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Durante la llamada, el móvil y la estación base inyectan el mismo SAT en la señal procesada por el  modulador de frecu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Tonos de supervisió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ste procedimiento permite confirmar a los móviles y estaciones base que están recibiendo la señal correcta, en vez de otra señal desde otra célula  vecina usando el mismo ca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Células adyacentes con la misma asignación de canales transmiten diferentes SA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Tonos de supervisió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Condiciones de propagación pueden causar que la señal de un interferente sea más fuerte que la señal deseada, y en este caso, el receptor demodula la señal interferen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Cuando la estación móvil o la base detectan un SAT incorrecto en la señal demodulada, enmudece la señal de aud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Tonos de supervisió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l efecto es una interrupción de la conversación por un silencio lo cual es indeseable, pero no tan desagradable como ser interrumpido por la voz de otra conversa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Sin embargo de esta providencia, suelen ocurrir casos de interferencia co-canal, lo cual en el estándar digital es evitado con un conjunto de hasta 256 SA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Tonos de supervisió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Dado que el móvil usa la misma antena para transmitir y recibir las señales, utiliza un duplexor para separar las seña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Señales Digita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A pesar de que el propósito principal del sistema AMPS es transportar señales de voz desde y hacia los terminales móviles, también transmite importante información de control de la red en forma digit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Las señales digitales toman la forma de senoides 8 KHz por encima o por debajo de la portador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4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Red Móvi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772400" cy="188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914400" y="4038480"/>
          <a:ext cx="7924680" cy="161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4038480"/>
                    <a:ext cx="792468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Señales Digita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l formato de la señal tiene un código Manchester FSK a una tasa de 10 Kb/s (un bit cada 100 </a:t>
            </a:r>
            <a:r>
              <a:rPr b="0" lang="es-EC" sz="3200" spc="-1" strike="noStrike">
                <a:solidFill>
                  <a:srgbClr val="402000"/>
                </a:solidFill>
                <a:latin typeface="Symbol"/>
                <a:ea typeface="Symbol"/>
              </a:rPr>
              <a:t></a:t>
            </a: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s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n este formato, un uno lógico es representado por una transición (en el medio del intervalo de bit de 100 </a:t>
            </a:r>
            <a:r>
              <a:rPr b="0" lang="es-EC" sz="3200" spc="-1" strike="noStrike">
                <a:solidFill>
                  <a:srgbClr val="402000"/>
                </a:solidFill>
                <a:latin typeface="Symbol"/>
                <a:ea typeface="Symbol"/>
              </a:rPr>
              <a:t></a:t>
            </a: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s) de   -8KHz  a +8KHz en relación a la portador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Un cero lógico es representado por la transición complementar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Señales Digita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l código Manchester facilita la sincronización del receptor, previniendo las transmisiones a una frecuencia constante por más de 100 </a:t>
            </a:r>
            <a:r>
              <a:rPr b="0" lang="es-EC" sz="3200" spc="-1" strike="noStrike">
                <a:solidFill>
                  <a:srgbClr val="402000"/>
                </a:solidFill>
                <a:latin typeface="Symbol"/>
                <a:ea typeface="Symbol"/>
              </a:rPr>
              <a:t></a:t>
            </a: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Señales Digita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143000" y="2057400"/>
          <a:ext cx="7543800" cy="40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7543800" cy="40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Señales Digita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219320" y="2057400"/>
          <a:ext cx="731520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31520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Eficiencia Espectra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Pruebas de escucha con criterios de potenciales suscriptores han determinado que la tecnología de transmisión AMPS requiere una relación de señal a interferencia de por lo menos 18 dB para una alta calidad de reproducción del sonido en el recept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Eficiencia Espectra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Para alcanzar este requerimiento con alta probabilidad, la gran mayoría de sistemas AMPS operan con un factor de reuso de N = 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Si el sistema trabaja con 395 canales de tráfico, el número medio de canales por célula es 56 4/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Eficiencia Espectra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Con el espectro total asignado para el sistema AMPS de 25 MHz (en cada dirección), la eficiencia espectral es d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295280" y="3657600"/>
                <a:ext cx="72392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5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 conversaciones/célula/MH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Canales Lógic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xisten cuatro canales lógicos que llevan información de control de la r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Implícito en el sistema AMPS está un canal lógico que lleva la información del usuario en forma analógic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Al par de canales de usuario se los conoce también como </a:t>
            </a:r>
            <a:r>
              <a:rPr b="0" i="1" lang="es-EC" sz="3200" spc="-1" strike="noStrike">
                <a:solidFill>
                  <a:srgbClr val="402000"/>
                </a:solidFill>
                <a:latin typeface="Times New Roman"/>
              </a:rPr>
              <a:t>canales de tráf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Canales Lógic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990720" y="2057400"/>
          <a:ext cx="8153280" cy="373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81532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Canales Lógic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La información de los canales de control es llevada en canales físicos reservados exclusivamente para información de control de la red (canales 313-354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n sistemas con mucho tráfico, las compañías operadoras usan canales físicos adicionales como canales de control directos y revers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4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Red Móvi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90720" y="1752480"/>
          <a:ext cx="7315200" cy="18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315200" cy="18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962520" y="3809880"/>
          <a:ext cx="5029200" cy="253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809880"/>
                    <a:ext cx="502920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Canales Lógic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l sistema utiliza estos canales de control para el establecimiento de la llamad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AMPS utiliza el término Canal de Voz para indicar el formato de información de control transportado en un canal físico que también lleva información de usuar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Canales Lógic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l canal directo de voz lleva información de control desde la estación base hasta la unidad móvil cuando una llamada está en curs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l canal reverso de voz lleva información de control del sistema desde el terminal hasta la estación base cuando la llamada está en curs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Canales Lógic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Para transmitir información sobre los canales directo y reverso de voz, el sistema AMPS utiliza una técnica conocida como </a:t>
            </a:r>
            <a:r>
              <a:rPr b="0" i="1" lang="es-EC" sz="3200" spc="-1" strike="noStrike">
                <a:solidFill>
                  <a:srgbClr val="402000"/>
                </a:solidFill>
                <a:latin typeface="Times New Roman"/>
              </a:rPr>
              <a:t>Blank and Burs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Para enviar un mensaje de control sobre un canal de voz, el sistema interrumpe el flujo de información de usuario e inserta un mensaje de control, típicamente de duración de 100 m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Canales Lógic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l efecto es multiplexar en el tiempo cada mitad de un canal físico entre información de usuario (tráfico) y control de la red (señalización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Cuando el sistema inserta un </a:t>
            </a:r>
            <a:r>
              <a:rPr b="0" i="1" lang="es-EC" sz="3200" spc="-1" strike="noStrike">
                <a:solidFill>
                  <a:srgbClr val="402000"/>
                </a:solidFill>
                <a:latin typeface="Times New Roman"/>
              </a:rPr>
              <a:t>burst</a:t>
            </a: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 se señalización, el usuario escucha un click no especialmente obstructivo si ocurre con poca frecuencia (una o dos veces por minuto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Canales Lógic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Sin embargo, transmisiones frecuentes de información de control durante una llamada (que causan muchos clicks) pueden deteriorar severamente una conversa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sta imperfección limita la cantidad de información de control que el sistema AMPS puede transferir entre los terminales y la base durante una llamad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Canales Lógic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Debido a la interferencia y la atenuación de los canales físicos, la información de control sufre altas tasas de errores de bit, por lo que es necesario protegerla con códigos detectores y correctores de error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El canal de control directo (FOCC) lleva la misma información desde la estación base a todos los terminales en una célula que se encuentren prendidos y que no tengan una llamada en curs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Canales Lógic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De igual manera, un canal reverso de control lleva información desde varios móviles que no tienen asignados canales de voz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Para hacer esto posible, AMPS especifica un protocolo de acceso aleatorio que determina cómo las estaciones móviles deben esperar para tener la atención del receptor de la estación ba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400" spc="-1" strike="noStrike">
                <a:solidFill>
                  <a:srgbClr val="402000"/>
                </a:solidFill>
                <a:latin typeface="Times New Roman"/>
              </a:rPr>
              <a:t>Canales Lógic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Los canales directo y reverso de voz son enlaces dedicados (uno a uno) entre la estación base y el terminal cuando la llamada está en curso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144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402000"/>
                </a:solidFill>
                <a:latin typeface="Times New Roman"/>
              </a:rPr>
              <a:t>Red Móvi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620120" cy="188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1295280" y="3809880"/>
          <a:ext cx="7848720" cy="19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809880"/>
                    <a:ext cx="784872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23:41:46Z</dcterms:created>
  <dc:creator>STAFF</dc:creator>
  <dc:description/>
  <dc:language>en-US</dc:language>
  <cp:lastModifiedBy>laboratorios generales</cp:lastModifiedBy>
  <dcterms:modified xsi:type="dcterms:W3CDTF">1999-08-26T16:32:29Z</dcterms:modified>
  <cp:revision>38</cp:revision>
  <dc:subject/>
  <dc:title>Sistemas de Comunicaciones Móviles</dc:title>
</cp:coreProperties>
</file>